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9F5E-AD41-43C6-9203-2900B568F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ED65-0039-4FA0-959B-6539B94695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7B6C-B5D5-414E-AD8B-2D1F34F33A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FB3C-5E8B-4DD1-9742-6BB57D6554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2B92-6557-47DE-80F1-CCA423DA2B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13D6-2828-4C0A-BB18-F0F1C9FFAC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FCB-D09B-4A25-B4E3-862D8643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999-2935-4667-A630-D3D5803A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0F2F62-E104-4384-B890-7370AF28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D2C489-ACB1-497B-90D4-BD13FB29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34AE5E-C5B8-4325-89D1-C69D14CF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6DE781-0995-4574-9808-D7E05DAD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D35834-03A4-484F-BF31-373D581F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D6C3BB-8BC8-4EED-80BB-A9275B3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41E53-04CA-4391-B291-977D81E7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3938E6-4634-47C6-B29A-4614979F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FE9024-EB9F-4993-9758-62603C98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E1672-0F3B-4EC8-94C1-D1EC0E51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A8F-EB20-49CE-8C1D-A8070F13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930F0-8B52-4906-810E-BDBF2EE5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AB03F-10CF-458E-96E4-ECA6AE0B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F1728-7E84-45B6-AB28-64BFB101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A31CB-1C3D-4823-A0EE-88E220C7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FE935-0FA9-4061-8713-5492C98C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7BE35-2F59-4B8E-B11A-FD30C58B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75E10-8D4C-428E-A60F-1E3E6F98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72F78-3B2E-44D9-95A1-2A38A178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877EF-2D7B-4BB1-8EF3-425FB306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9198D-13F5-4350-9164-161EC775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EC2-8ACA-4E92-AADF-E2514800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D224A-C06E-42A0-BFDB-8839FFFA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F1739-3EEB-4561-90B0-E988BD76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10967-D5B0-44CB-A653-68DC8F22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7950E-94FC-4847-863E-C5727944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9B869-03EA-44D0-A302-4387B490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999AE-BAC3-4A47-9FC8-DBC8345D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1F1BE-D4F2-447C-B498-F71FB910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A8AE3-ACA1-4D34-B33E-6AAD2CC0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F2598-0F1C-442E-B7E5-0BE40AA5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AE34D-C4F6-4213-AF56-E6051DE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262C9-FE7B-401D-98B6-D5BCDCE3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961C8-5D4D-40DA-8D71-D98063FD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1838F-E0D8-4232-92A5-9D4AD3A5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0AAB5-1EF6-430F-A152-EB2433CD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31720-7335-49F4-87A9-CB7D3840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F3649-D734-429A-A606-1855246B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C9A93-DA0A-471D-89CC-8672B1AE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9D505-5B6C-4549-AD28-0A960278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8FE69-522A-4FE5-A7D5-5E82A895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6A228-65E7-46F8-9280-03F24825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FCD-0EC9-4947-AC8E-01F135F2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DC91C-5E54-45BD-A8B7-D9131D21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D8291-9447-4FA2-98AF-4965CF38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F096E-09A8-4A07-9F54-63ED07D6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675CB-6A58-4471-AE09-7B1C76FA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49AF7-75B0-468A-86C3-E03909BA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4F30-72F3-438B-A3E8-FDBFD616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7B7D8-FF33-4F12-B921-69D87C25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74D5-13E1-4D65-8BA0-32E809E1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935E-B8E9-420F-A512-2644DDA6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08014-D75F-4500-812E-413D1A6C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268-85A1-4D4A-8061-008C37BC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4C38-09B2-4E4C-92F7-24D02DFA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9AD8-1321-43A3-8CA8-A480288E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62E5-3F72-48E1-9519-51B602FB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FBB1-70E1-43A0-8090-E1F46C1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1865-3E39-4A5B-BDA4-B71F9FE3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0E18-E439-4171-8862-A8F8D22E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513A-EED8-42DD-BCF1-62E2A0FC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E9650-3CC5-464E-8532-E73C72ED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E2909-FFEA-43D5-8C82-CACBB79B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0C094A-0EEC-43CC-BF55-E205C9A2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0F6-78D5-4EE1-9E6E-3E374BA6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55B58-2679-4099-A505-A66DB25F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67FC8-DA14-4566-A2A0-EC446082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86A433-8849-44E3-AB7D-8022A382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AEE50-654D-48F6-B7F2-B402554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0F5E8-AF47-4E54-95E4-A81F20E6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770DE-D46C-497C-B67B-0234233E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2D7C3-63CC-4F3C-9F1A-787EDDE1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4E0D49-26D0-4E77-A6E4-C046DC0B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6AE88-A2CF-4DA4-A48E-35EF894D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CE61F-86DA-4809-A56D-CC195D2B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03E-E079-499E-9260-D29BB304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B358B-0CF1-4C28-B650-85DA9A75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C50E0-2744-449A-A0AB-E0AFB1A1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53749-3E44-4A9B-A0E7-80316150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69246-A811-4F62-922A-C8541761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96286-1740-49A0-B19F-2764C3D5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8BED3-8962-4599-8642-850CA04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FFF2D-7F11-472B-BDFF-31B4E546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15BB4-262E-4913-B959-95373E12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D77B-A5A6-4611-828C-8AF77793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8952E-CD96-4641-8D8E-6FBD999F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D48-D71A-4265-BB52-28FB937E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3A46D-142B-4DFF-83EF-50D169AA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7280D-1B9E-449C-B07C-EB39A4AB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00C3-8F41-4DC2-9510-D4232DF4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0F412-3C42-484B-AA65-D87F9AF8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30B42-1D10-43E0-929C-340AB984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C04A6-157C-403D-9551-66DDA87C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46606-8027-43BB-AE7A-754B621D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A1526-0285-461D-9D24-380BDED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CE801-27CF-4213-8750-0A2CA288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32338-17E0-4594-B8A3-79BB5F94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852-420A-44A6-B63B-4A120876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B3752-C0BF-41D1-9F8A-EDCC0F94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4247F-C5FC-4F84-812B-0992978B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B91AA-1F50-4A66-8280-655B67E8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3B308-9E35-4373-86DF-6DCC72A3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53703-ED97-48C9-915F-D53A3CBF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D16C1-5179-4073-99FC-AA013956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A3466-FB2F-4591-A78F-91582B0B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6AD7-7A94-4F90-8A71-F1B709C3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07186-93AF-4C36-BADF-36A3ED5E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018AC-95C9-4790-8A3F-4CA57B0B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CC4-6BA7-460E-83F4-F62841C7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BB529-5C37-4C8D-95DF-9F096179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FEFB4-B703-4335-A414-1EBC5A03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6B53-36B6-479C-AA5B-094AB256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AE52C-0C2C-4EDA-9715-B65FA79B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501C7-CBD1-4D64-BD37-C8B1BA45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BF3E8D-0893-4612-9828-5E286BA6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F641D0-5361-4558-A605-2373340E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4114F2-2A2C-40CA-89C4-0B283A2D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E4C05-8401-44E3-9E81-891E9755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7EE649-31D0-484C-B230-C1FC0CD7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EEE-C5D9-4414-BD49-F7E46F82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36415-714F-4007-9DE4-E636A754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B57E87-8BAE-4E8D-AB54-D5047FC8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52F98F-0494-4DA4-AFF5-6276E2F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4E47CD-1D05-4AF9-9580-335B5737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B7437C-CBDA-4BED-96BC-6BA4C02C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247D18-3CDD-449B-A326-12F4B2D2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7EE22-F9E0-49A6-9D08-B977FDE6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887DC7-211C-4793-BFCB-3651FD09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EC54BF-9D63-4101-BF6D-B30557E7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C57ACF-13C6-4ABB-ABC3-B7C9F8C6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82BB-69BB-4F58-943F-B3D8F36C6E72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569C10B9-0A43-4194-886A-F46690F0CBA6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CAE6-85D9-4551-A744-C051DAB06D2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1C3D-DD8F-404B-B7AB-2A717A94E5BD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E4436C85-0CE0-49A6-9C61-84330EC7467B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956B-49DC-4295-A5ED-FE189102FC0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8463-553F-4407-B4FB-ED05779F9400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5EEE02CD-B1D9-4F2C-A25A-5ED72F61907D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E2AA-F072-4D66-A366-730B2260980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FFAA-52B0-4977-B6ED-2A58E21BD9F6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0296A4AF-B317-46B6-B709-7D9483AA9F4A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5B49-20C5-459D-9583-47618DDEAEA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27DF-6421-4505-92FD-1122AED266F1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E3CF712E-84B8-49E6-A48A-85B3CABAABFF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9CB4-0740-4AFD-B1DF-3C31E4D6ACD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0BC4-386D-4942-88FE-FA9138B639FB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6176479B-08EE-4821-9D79-B9B466FC41F6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078F-04D7-4403-A0C9-7B32577F1D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1C1-80E2-41AD-BD26-0D926F49FBC2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797FE0FD-0758-4CB1-8CAC-23E25A13A0E9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89FB-B2F4-4E41-916A-C2C119927F6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2796-DC32-411A-89CD-DA8EA119FE24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1CFD8174-EB1B-47AB-8EF8-D3AF56EAE3F3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E6A1-35B0-44E0-9E71-1F8E18C9730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1EFB-2A65-44ED-BE44-860076B99686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DFA69BAA-9DC9-4F4B-8725-23CCF8F01778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809D-AA8E-4061-AAA5-A2A2B434A8D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0A6C-1B82-4509-B2F8-E64975C0EC42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432D9402-BFAA-4BA8-A473-BC853737CC83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B355-2065-4C91-92AF-DD1D806F762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4A78-CC0E-4CCA-BA39-0DC4365ED461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8FB714A5-2F48-4F76-8014-F43F0A170FBE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15:2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6273-D3A4-4FFB-9105-7836B4FD16A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1" descr=""/>
          <p:cNvPicPr/>
          <p:nvPr/>
        </p:nvPicPr>
        <p:blipFill>
          <a:blip r:embed="rId1"/>
          <a:stretch/>
        </p:blipFill>
        <p:spPr>
          <a:xfrm>
            <a:off x="907920" y="755640"/>
            <a:ext cx="8266320" cy="185436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294920" y="7621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TextBox 3"/>
          <p:cNvSpPr/>
          <p:nvPr/>
        </p:nvSpPr>
        <p:spPr>
          <a:xfrm>
            <a:off x="838080" y="342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JDTechCenter.wikispaces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" descr=""/>
          <p:cNvPicPr/>
          <p:nvPr/>
        </p:nvPicPr>
        <p:blipFill>
          <a:blip r:embed="rId1"/>
          <a:srcRect l="0" t="0" r="3905" b="6250"/>
          <a:stretch/>
        </p:blipFill>
        <p:spPr>
          <a:xfrm>
            <a:off x="228600" y="228600"/>
            <a:ext cx="8643960" cy="6324480"/>
          </a:xfrm>
          <a:prstGeom prst="rect">
            <a:avLst/>
          </a:prstGeom>
          <a:ln w="0">
            <a:noFill/>
          </a:ln>
        </p:spPr>
      </p:pic>
      <p:sp>
        <p:nvSpPr>
          <p:cNvPr id="519" name="Oval 3"/>
          <p:cNvSpPr/>
          <p:nvPr/>
        </p:nvSpPr>
        <p:spPr>
          <a:xfrm>
            <a:off x="7772400" y="609480"/>
            <a:ext cx="1371600" cy="60984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4"/>
          <p:cNvSpPr/>
          <p:nvPr/>
        </p:nvSpPr>
        <p:spPr>
          <a:xfrm>
            <a:off x="304920" y="990720"/>
            <a:ext cx="1295280" cy="38088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0" y="3124080"/>
            <a:ext cx="1676520" cy="236232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6"/>
          <p:cNvSpPr/>
          <p:nvPr/>
        </p:nvSpPr>
        <p:spPr>
          <a:xfrm>
            <a:off x="1752480" y="762120"/>
            <a:ext cx="304920" cy="30456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rcRect l="0" t="0" r="2768" b="11383"/>
          <a:stretch/>
        </p:blipFill>
        <p:spPr>
          <a:xfrm>
            <a:off x="380880" y="609480"/>
            <a:ext cx="8026560" cy="5486400"/>
          </a:xfrm>
          <a:prstGeom prst="rect">
            <a:avLst/>
          </a:prstGeom>
          <a:ln w="0">
            <a:noFill/>
          </a:ln>
        </p:spPr>
      </p:pic>
      <p:sp>
        <p:nvSpPr>
          <p:cNvPr id="524" name="Oval 2"/>
          <p:cNvSpPr/>
          <p:nvPr/>
        </p:nvSpPr>
        <p:spPr>
          <a:xfrm>
            <a:off x="2209680" y="2666880"/>
            <a:ext cx="990720" cy="22860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3"/>
          <p:cNvSpPr/>
          <p:nvPr/>
        </p:nvSpPr>
        <p:spPr>
          <a:xfrm>
            <a:off x="3809880" y="2743200"/>
            <a:ext cx="838440" cy="15228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3510360" y="83808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d documents or fol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"/>
          <p:cNvPicPr/>
          <p:nvPr/>
        </p:nvPicPr>
        <p:blipFill>
          <a:blip r:embed="rId1"/>
          <a:srcRect l="0" t="0" r="2344" b="6250"/>
          <a:stretch/>
        </p:blipFill>
        <p:spPr>
          <a:xfrm>
            <a:off x="304920" y="304920"/>
            <a:ext cx="8572320" cy="6172200"/>
          </a:xfrm>
          <a:prstGeom prst="rect">
            <a:avLst/>
          </a:prstGeom>
          <a:ln w="0">
            <a:noFill/>
          </a:ln>
        </p:spPr>
      </p:pic>
      <p:sp>
        <p:nvSpPr>
          <p:cNvPr id="528" name="Oval 3"/>
          <p:cNvSpPr/>
          <p:nvPr/>
        </p:nvSpPr>
        <p:spPr>
          <a:xfrm>
            <a:off x="2133720" y="2286000"/>
            <a:ext cx="1218960" cy="457200"/>
          </a:xfrm>
          <a:prstGeom prst="ellipse">
            <a:avLst/>
          </a:prstGeom>
          <a:noFill/>
          <a:ln w="381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1905120" y="1371600"/>
            <a:ext cx="1981080" cy="45720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" descr=""/>
          <p:cNvPicPr/>
          <p:nvPr/>
        </p:nvPicPr>
        <p:blipFill>
          <a:blip r:embed="rId1"/>
          <a:srcRect l="0" t="0" r="3126" b="6250"/>
          <a:stretch/>
        </p:blipFill>
        <p:spPr>
          <a:xfrm>
            <a:off x="228600" y="304920"/>
            <a:ext cx="8458200" cy="6248160"/>
          </a:xfrm>
          <a:prstGeom prst="rect">
            <a:avLst/>
          </a:prstGeom>
          <a:ln w="0">
            <a:noFill/>
          </a:ln>
        </p:spPr>
      </p:pic>
      <p:sp>
        <p:nvSpPr>
          <p:cNvPr id="531" name="Oval 3"/>
          <p:cNvSpPr/>
          <p:nvPr/>
        </p:nvSpPr>
        <p:spPr>
          <a:xfrm>
            <a:off x="1981080" y="1371600"/>
            <a:ext cx="3657600" cy="53352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0" t="0" r="10936" b="14582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  <p:sp>
        <p:nvSpPr>
          <p:cNvPr id="533" name="Oval 3"/>
          <p:cNvSpPr/>
          <p:nvPr/>
        </p:nvSpPr>
        <p:spPr>
          <a:xfrm>
            <a:off x="3276720" y="1143000"/>
            <a:ext cx="2743200" cy="38088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535" name="Content Placeholder 3" descr=""/>
          <p:cNvPicPr/>
          <p:nvPr/>
        </p:nvPicPr>
        <p:blipFill>
          <a:blip r:embed="rId2"/>
          <a:srcRect l="0" t="0" r="74786" b="0"/>
          <a:stretch/>
        </p:blipFill>
        <p:spPr>
          <a:xfrm>
            <a:off x="533520" y="1981080"/>
            <a:ext cx="1143000" cy="262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6" name="Picture 4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2886120" cy="85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7" name="Picture 5" descr=""/>
          <p:cNvPicPr/>
          <p:nvPr/>
        </p:nvPicPr>
        <p:blipFill>
          <a:blip r:embed="rId4"/>
          <a:stretch/>
        </p:blipFill>
        <p:spPr>
          <a:xfrm>
            <a:off x="5867280" y="2286000"/>
            <a:ext cx="256248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8" name="Picture 6" descr=""/>
          <p:cNvPicPr/>
          <p:nvPr/>
        </p:nvPicPr>
        <p:blipFill>
          <a:blip r:embed="rId5"/>
          <a:stretch/>
        </p:blipFill>
        <p:spPr>
          <a:xfrm>
            <a:off x="2438280" y="4267080"/>
            <a:ext cx="2943360" cy="1231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"/>
          <p:cNvPicPr/>
          <p:nvPr/>
        </p:nvPicPr>
        <p:blipFill>
          <a:blip r:embed="rId6"/>
          <a:stretch/>
        </p:blipFill>
        <p:spPr>
          <a:xfrm>
            <a:off x="6019920" y="4952880"/>
            <a:ext cx="2752560" cy="609840"/>
          </a:xfrm>
          <a:prstGeom prst="rect">
            <a:avLst/>
          </a:prstGeom>
          <a:ln w="0">
            <a:noFill/>
          </a:ln>
        </p:spPr>
      </p:pic>
      <p:sp>
        <p:nvSpPr>
          <p:cNvPr id="540" name="Oval 8"/>
          <p:cNvSpPr/>
          <p:nvPr/>
        </p:nvSpPr>
        <p:spPr>
          <a:xfrm>
            <a:off x="457200" y="4114800"/>
            <a:ext cx="914400" cy="38088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9"/>
          <p:cNvSpPr/>
          <p:nvPr/>
        </p:nvSpPr>
        <p:spPr>
          <a:xfrm>
            <a:off x="304920" y="152388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Users and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10"/>
          <p:cNvSpPr/>
          <p:nvPr/>
        </p:nvSpPr>
        <p:spPr>
          <a:xfrm>
            <a:off x="2918160" y="2057400"/>
            <a:ext cx="18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Create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Box 11"/>
          <p:cNvSpPr/>
          <p:nvPr/>
        </p:nvSpPr>
        <p:spPr>
          <a:xfrm>
            <a:off x="6342840" y="19051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Find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12"/>
          <p:cNvSpPr/>
          <p:nvPr/>
        </p:nvSpPr>
        <p:spPr>
          <a:xfrm>
            <a:off x="2838960" y="388620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nroll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6036840" y="403848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user is enroll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essage will app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reate a banner in Power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- Type ban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- Save as a JPE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rcRect l="25003" t="61462" r="17189" b="18750"/>
          <a:stretch/>
        </p:blipFill>
        <p:spPr>
          <a:xfrm>
            <a:off x="1143000" y="5029200"/>
            <a:ext cx="6172200" cy="1584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3810240" cy="2895480"/>
          </a:xfrm>
          <a:prstGeom prst="rect">
            <a:avLst/>
          </a:prstGeom>
          <a:ln w="0">
            <a:noFill/>
          </a:ln>
        </p:spPr>
      </p:pic>
      <p:sp>
        <p:nvSpPr>
          <p:cNvPr id="549" name="Oval 4"/>
          <p:cNvSpPr/>
          <p:nvPr/>
        </p:nvSpPr>
        <p:spPr>
          <a:xfrm>
            <a:off x="3733920" y="2209680"/>
            <a:ext cx="609480" cy="30492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2514600" y="3505320"/>
            <a:ext cx="1676520" cy="45720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"/>
          <p:cNvPicPr/>
          <p:nvPr/>
        </p:nvPicPr>
        <p:blipFill>
          <a:blip r:embed="rId1"/>
          <a:srcRect l="0" t="0" r="1561" b="4168"/>
          <a:stretch/>
        </p:blipFill>
        <p:spPr>
          <a:xfrm>
            <a:off x="228600" y="228600"/>
            <a:ext cx="8686800" cy="6342120"/>
          </a:xfrm>
          <a:prstGeom prst="rect">
            <a:avLst/>
          </a:prstGeom>
          <a:ln w="0">
            <a:noFill/>
          </a:ln>
        </p:spPr>
      </p:pic>
      <p:cxnSp>
        <p:nvCxnSpPr>
          <p:cNvPr id="552" name="Straight Arrow Connector 3"/>
          <p:cNvCxnSpPr/>
          <p:nvPr/>
        </p:nvCxnSpPr>
        <p:spPr>
          <a:xfrm flipH="1">
            <a:off x="1142280" y="6248160"/>
            <a:ext cx="1220040" cy="153000"/>
          </a:xfrm>
          <a:prstGeom prst="straightConnector1">
            <a:avLst/>
          </a:prstGeom>
          <a:ln w="38160">
            <a:solidFill>
              <a:srgbClr val="b0ccb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Oval 2"/>
          <p:cNvSpPr/>
          <p:nvPr/>
        </p:nvSpPr>
        <p:spPr>
          <a:xfrm>
            <a:off x="1981080" y="2895480"/>
            <a:ext cx="2057400" cy="53352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143920" cy="4753080"/>
          </a:xfrm>
          <a:prstGeom prst="rect">
            <a:avLst/>
          </a:prstGeom>
          <a:ln w="0">
            <a:noFill/>
          </a:ln>
        </p:spPr>
      </p:pic>
      <p:sp>
        <p:nvSpPr>
          <p:cNvPr id="555" name="Oval 4"/>
          <p:cNvSpPr/>
          <p:nvPr/>
        </p:nvSpPr>
        <p:spPr>
          <a:xfrm>
            <a:off x="2133720" y="3124080"/>
            <a:ext cx="1904760" cy="60984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"/>
          <p:cNvPicPr/>
          <p:nvPr/>
        </p:nvPicPr>
        <p:blipFill>
          <a:blip r:embed="rId1"/>
          <a:srcRect l="0" t="7741" r="4724" b="2082"/>
          <a:stretch/>
        </p:blipFill>
        <p:spPr>
          <a:xfrm>
            <a:off x="157320" y="304920"/>
            <a:ext cx="8785080" cy="6248160"/>
          </a:xfrm>
          <a:prstGeom prst="rect">
            <a:avLst/>
          </a:prstGeom>
          <a:ln w="0">
            <a:noFill/>
          </a:ln>
        </p:spPr>
      </p:pic>
      <p:sp>
        <p:nvSpPr>
          <p:cNvPr id="557" name="Oval 2"/>
          <p:cNvSpPr/>
          <p:nvPr/>
        </p:nvSpPr>
        <p:spPr>
          <a:xfrm>
            <a:off x="1371600" y="2209680"/>
            <a:ext cx="2819520" cy="83844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Oval 3"/>
          <p:cNvSpPr/>
          <p:nvPr/>
        </p:nvSpPr>
        <p:spPr>
          <a:xfrm>
            <a:off x="5029200" y="1447920"/>
            <a:ext cx="3733920" cy="91440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181480" y="5791320"/>
            <a:ext cx="3124440" cy="83808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1" descr=""/>
          <p:cNvPicPr/>
          <p:nvPr/>
        </p:nvPicPr>
        <p:blipFill>
          <a:blip r:embed="rId1"/>
          <a:stretch/>
        </p:blipFill>
        <p:spPr>
          <a:xfrm>
            <a:off x="1427040" y="146160"/>
            <a:ext cx="7809120" cy="10922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2282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400"/>
              </a:spcBef>
              <a:buClr>
                <a:srgbClr val="b0ccb0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Become aware of Jeff Davis Blackboard and Internet policies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36520">
              <a:spcBef>
                <a:spcPts val="400"/>
              </a:spcBef>
              <a:buClr>
                <a:srgbClr val="b0ccb0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Utilize the basics of Blackboard to design a course/faculty site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36520">
              <a:spcBef>
                <a:spcPts val="400"/>
              </a:spcBef>
              <a:buClr>
                <a:srgbClr val="b0ccb0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Use accepted instructional guidelines to develop and maintain their course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36520">
              <a:spcBef>
                <a:spcPts val="400"/>
              </a:spcBef>
              <a:buClr>
                <a:srgbClr val="b0ccb0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Be able to upload documents and update their course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36520">
              <a:spcBef>
                <a:spcPts val="400"/>
              </a:spcBef>
              <a:buClr>
                <a:srgbClr val="b0ccb0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Diagram 1" descr=""/>
          <p:cNvPicPr/>
          <p:nvPr/>
        </p:nvPicPr>
        <p:blipFill>
          <a:blip r:embed="rId1"/>
          <a:stretch/>
        </p:blipFill>
        <p:spPr>
          <a:xfrm>
            <a:off x="-463680" y="-6480"/>
            <a:ext cx="10150560" cy="68709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2133720" y="14479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ussion Bo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ideas for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id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4800600" y="13716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 a case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a top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arguments and supporting ev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4800600" y="358128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ur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identifies areas for hel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s a plan for improv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o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5"/>
          <p:cNvSpPr/>
          <p:nvPr/>
        </p:nvSpPr>
        <p:spPr>
          <a:xfrm>
            <a:off x="2286000" y="3657600"/>
            <a:ext cx="213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summ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glo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ng student writing for final pa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990800" cy="35337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3"/>
          <a:stretch/>
        </p:blipFill>
        <p:spPr>
          <a:xfrm>
            <a:off x="762120" y="2057400"/>
            <a:ext cx="4981320" cy="22384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5"/>
          <p:cNvSpPr/>
          <p:nvPr/>
        </p:nvSpPr>
        <p:spPr>
          <a:xfrm>
            <a:off x="1224000" y="167652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a test or assig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6553440" y="20574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grade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Rectang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982800"/>
          </a:xfrm>
          <a:prstGeom prst="rect">
            <a:avLst/>
          </a:prstGeom>
          <a:ln w="0">
            <a:noFill/>
          </a:ln>
        </p:spPr>
      </p:pic>
      <p:pic>
        <p:nvPicPr>
          <p:cNvPr id="495" name="Content Placeholder 3" descr=""/>
          <p:cNvPicPr/>
          <p:nvPr/>
        </p:nvPicPr>
        <p:blipFill>
          <a:blip r:embed="rId2"/>
          <a:stretch/>
        </p:blipFill>
        <p:spPr>
          <a:xfrm>
            <a:off x="450720" y="1639800"/>
            <a:ext cx="824256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Title 1" descr=""/>
          <p:cNvPicPr/>
          <p:nvPr/>
        </p:nvPicPr>
        <p:blipFill>
          <a:blip r:embed="rId1"/>
          <a:stretch/>
        </p:blipFill>
        <p:spPr>
          <a:xfrm>
            <a:off x="603360" y="-725400"/>
            <a:ext cx="8169120" cy="22557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1"/>
                </a:solidFill>
                <a:latin typeface="Rockwell"/>
              </a:rPr>
              <a:t>http://www./copyright.gov/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609480" y="3049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eddc"/>
                </a:solidFill>
                <a:latin typeface="Rockwell"/>
              </a:rPr>
              <a:t>Copyright Rules and Regulatio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0620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Your nam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Your school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pecific name of your course(s)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buClr>
                <a:srgbClr val="72a37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Karen Guidry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1"/>
                </a:solidFill>
                <a:latin typeface="Rockwell"/>
              </a:rPr>
              <a:t>Karen.guidry@jdpsbk12.org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buClr>
                <a:srgbClr val="72a37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1" descr=""/>
          <p:cNvPicPr/>
          <p:nvPr/>
        </p:nvPicPr>
        <p:blipFill>
          <a:blip r:embed="rId1"/>
          <a:stretch/>
        </p:blipFill>
        <p:spPr>
          <a:xfrm>
            <a:off x="-36360" y="268200"/>
            <a:ext cx="9283680" cy="8906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buClr>
                <a:srgbClr val="72a37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st be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aved a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 the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SV Comma Delimited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Type fil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buClr>
                <a:srgbClr val="72a37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52280" y="2666880"/>
          <a:ext cx="8763120" cy="1887480"/>
        </p:xfrm>
        <a:graphic>
          <a:graphicData uri="http://schemas.openxmlformats.org/drawingml/2006/table">
            <a:tbl>
              <a:tblPr/>
              <a:tblGrid>
                <a:gridCol w="1981440"/>
                <a:gridCol w="990360"/>
                <a:gridCol w="1067040"/>
                <a:gridCol w="3794040"/>
                <a:gridCol w="93024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.hhs.kguid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Guid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Kar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taycle.duplichan@jdpsbk12.o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boo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.hhs.k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Rockwell"/>
                        </a:rPr>
                        <a:t>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guid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Guid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Ka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taycle.duplichan@jdpsbk12.o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penc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TextBox 10"/>
          <p:cNvSpPr/>
          <p:nvPr/>
        </p:nvSpPr>
        <p:spPr>
          <a:xfrm rot="16200000">
            <a:off x="-14760" y="4491360"/>
            <a:ext cx="221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school’s 3 let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First letter of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Last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1"/>
          <p:cNvSpPr/>
          <p:nvPr/>
        </p:nvSpPr>
        <p:spPr>
          <a:xfrm rot="16200000">
            <a:off x="1326960" y="49971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tudent’s last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12"/>
          <p:cNvSpPr/>
          <p:nvPr/>
        </p:nvSpPr>
        <p:spPr>
          <a:xfrm rot="16200000">
            <a:off x="2454840" y="4936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tudent’s first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13"/>
          <p:cNvSpPr/>
          <p:nvPr/>
        </p:nvSpPr>
        <p:spPr>
          <a:xfrm rot="16200000">
            <a:off x="4528080" y="4844160"/>
            <a:ext cx="25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eacher’s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14"/>
          <p:cNvSpPr/>
          <p:nvPr/>
        </p:nvSpPr>
        <p:spPr>
          <a:xfrm rot="16200000">
            <a:off x="7499160" y="51494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ass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15"/>
          <p:cNvSpPr/>
          <p:nvPr/>
        </p:nvSpPr>
        <p:spPr>
          <a:xfrm>
            <a:off x="152280" y="396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1"/>
                </a:solidFill>
                <a:latin typeface="Tw Cen MT"/>
              </a:rPr>
              <a:t>Middle ini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Straight Arrow Connector 17"/>
          <p:cNvCxnSpPr/>
          <p:nvPr/>
        </p:nvCxnSpPr>
        <p:spPr>
          <a:xfrm flipV="1">
            <a:off x="838080" y="3733560"/>
            <a:ext cx="153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-6480" y="249120"/>
            <a:ext cx="8948880" cy="1062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mail to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aycle Duplicha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aycle.duplichan@jdpsbk12.or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5924520" cy="152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7387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839440" cy="5580360"/>
          </a:xfrm>
          <a:prstGeom prst="rect">
            <a:avLst/>
          </a:prstGeom>
          <a:ln w="0">
            <a:noFill/>
          </a:ln>
        </p:spPr>
      </p:pic>
      <p:pic>
        <p:nvPicPr>
          <p:cNvPr id="516" name="TextBox 3" descr=""/>
          <p:cNvPicPr/>
          <p:nvPr/>
        </p:nvPicPr>
        <p:blipFill>
          <a:blip r:embed="rId2"/>
          <a:stretch/>
        </p:blipFill>
        <p:spPr>
          <a:xfrm>
            <a:off x="463680" y="334800"/>
            <a:ext cx="8388360" cy="427320"/>
          </a:xfrm>
          <a:prstGeom prst="rect">
            <a:avLst/>
          </a:prstGeom>
          <a:ln w="0">
            <a:noFill/>
          </a:ln>
        </p:spPr>
      </p:pic>
      <p:cxnSp>
        <p:nvCxnSpPr>
          <p:cNvPr id="517" name="Straight Arrow Connector 5"/>
          <p:cNvCxnSpPr/>
          <p:nvPr/>
        </p:nvCxnSpPr>
        <p:spPr>
          <a:xfrm>
            <a:off x="8076960" y="762120"/>
            <a:ext cx="108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2:49:19Z</dcterms:created>
  <dc:creator/>
  <dc:description/>
  <cp:keywords/>
  <dc:language>en-US</dc:language>
  <cp:lastModifiedBy/>
  <dcterms:modified xsi:type="dcterms:W3CDTF">2012-10-03T15:46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